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34C7-5714-4E72-8598-0415FCC49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131F-608D-4749-83A3-DDACCE10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A774-905E-4783-BB89-BFF4F61BA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229B-04A5-4286-8C82-4D042D35A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B383-852A-4564-9384-8B83FEAE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00FF-4BB2-4587-AEDD-562A04EE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B640-21CE-4D08-908F-09495B7F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FBBD-F347-488B-A55B-B679783E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4DD6-9139-4CEF-9211-00806D6E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02CF-90BE-43A3-A917-4400539F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51B6-46A9-4512-B7ED-702D72F0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8113-CAA3-467F-BABD-08FBACC7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B267-9EC9-465B-B03A-556F617A655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539640" y="1413000"/>
            <a:ext cx="7561440" cy="18003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libri"/>
              </a:rPr>
              <a:t>Rada Delegatów Robotniczych w Lublinie utworzona w dniu 5.11.1918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Calibri"/>
              </a:rPr>
              <a:t>roku z inicjatywy Socjaldemokracji Królestwa Polskiego i Litwy oraz Polskiej Partii Socjalistyczne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7T12:00:24Z</dcterms:created>
  <dc:creator>rena</dc:creator>
  <dc:description/>
  <dc:language>en-US</dc:language>
  <cp:lastModifiedBy>rena</cp:lastModifiedBy>
  <dcterms:modified xsi:type="dcterms:W3CDTF">2013-03-05T17:53:32Z</dcterms:modified>
  <cp:revision>3</cp:revision>
  <dc:subject/>
  <dc:title>Rada Delegatów Robotniczych w Lublinie</dc:title>
</cp:coreProperties>
</file>